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609D5-BC2D-47DE-8547-24CA269867F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55C29-A166-48D6-AA09-BE976FD4F67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70A27-9CD9-43B4-91C4-0071A2FEA75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00E4-CC33-472F-9F97-6C9AC0371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D322-4721-416D-A884-909A7C111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21ED-8723-48D3-A92F-B246C16A4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C64A-87A8-4EFB-A881-DFFE4A67D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2CB5-4AA6-46E8-900D-1801D67ED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B3B7-33F8-4EEF-81E2-940D2CE9A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0D3C-2694-40E9-A67A-6F1D61C48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1D21-FB11-41E8-A71F-F0CB08AF0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A97B-2FDD-4297-8530-D90989332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2E6B-4A16-4B4D-B3CE-A7548D3C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83CE-E446-432B-A271-1F9A7C26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3EEB-9F59-4B36-9264-A89FACF1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2DA34-7809-4C8E-B611-B31CB4F909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1097280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:\для чупиной презентация\4949c903e0674c2c9888c06a961b93f1.jp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"/>
          <p:cNvSpPr/>
          <p:nvPr/>
        </p:nvSpPr>
        <p:spPr>
          <a:xfrm>
            <a:off x="2087640" y="4174920"/>
            <a:ext cx="10104480" cy="19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кляренко Юлия Анатольевна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меститель директор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УАДО «ООДТДМ им. В.П. Поляничко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.п.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Заголовок 1"/>
          <p:cNvSpPr/>
          <p:nvPr/>
        </p:nvSpPr>
        <p:spPr>
          <a:xfrm>
            <a:off x="263520" y="2120760"/>
            <a:ext cx="11665080" cy="16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3"/>
          <p:cNvSpPr/>
          <p:nvPr/>
        </p:nvSpPr>
        <p:spPr>
          <a:xfrm>
            <a:off x="766800" y="1190520"/>
            <a:ext cx="1065852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«Календарь образовательных событий: использование в воспитательной работе 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:\для чупиной презентация\4949c903e0674c2c9888c06a961b93f1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Объект 4" descr=""/>
          <p:cNvPicPr/>
          <p:nvPr/>
        </p:nvPicPr>
        <p:blipFill>
          <a:blip r:embed="rId2"/>
          <a:stretch/>
        </p:blipFill>
        <p:spPr>
          <a:xfrm>
            <a:off x="30240" y="1023840"/>
            <a:ext cx="12271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:\для чупиной презентация\4949c903e0674c2c9888c06a961b93f1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1" descr=""/>
          <p:cNvPicPr/>
          <p:nvPr/>
        </p:nvPicPr>
        <p:blipFill>
          <a:blip r:embed="rId2"/>
          <a:srcRect l="16094" t="18499" r="13870" b="8656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:\для чупиной презентация\4949c903e0674c2c9888c06a961b93f1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Объект 2" descr=""/>
          <p:cNvPicPr/>
          <p:nvPr/>
        </p:nvPicPr>
        <p:blipFill>
          <a:blip r:embed="rId2"/>
          <a:srcRect l="14960" t="14951" r="10469" b="5502"/>
          <a:stretch/>
        </p:blipFill>
        <p:spPr>
          <a:xfrm>
            <a:off x="0" y="0"/>
            <a:ext cx="12192120" cy="69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:\для чупиной презентация\4949c903e0674c2c9888c06a961b93f1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99880" y="-360"/>
            <a:ext cx="115920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Календарь массовых и методических мероприятий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Региональных ресурсных центро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4" descr=""/>
          <p:cNvPicPr/>
          <p:nvPr/>
        </p:nvPicPr>
        <p:blipFill>
          <a:blip r:embed="rId2"/>
          <a:srcRect l="11675" t="26580" r="9949" b="9439"/>
          <a:stretch/>
        </p:blipFill>
        <p:spPr>
          <a:xfrm>
            <a:off x="152280" y="896760"/>
            <a:ext cx="12192120" cy="5064480"/>
          </a:xfrm>
          <a:prstGeom prst="rect">
            <a:avLst/>
          </a:prstGeom>
          <a:ln w="0">
            <a:noFill/>
          </a:ln>
        </p:spPr>
      </p:pic>
      <p:sp>
        <p:nvSpPr>
          <p:cNvPr id="63" name="Заголовок 1"/>
          <p:cNvSpPr/>
          <p:nvPr/>
        </p:nvSpPr>
        <p:spPr>
          <a:xfrm>
            <a:off x="452520" y="5778360"/>
            <a:ext cx="11592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Приказ о создании Регионального модельного центра  от 23.07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:\для чупиной презентация\4949c903e0674c2c9888c06a961b93f1.jpg"/>
          <p:cNvPicPr/>
          <p:nvPr/>
        </p:nvPicPr>
        <p:blipFill>
          <a:blip r:embed="rId1"/>
          <a:stretch/>
        </p:blipFill>
        <p:spPr>
          <a:xfrm>
            <a:off x="0" y="-1908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83680"/>
            <a:ext cx="1180944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Контакт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Скругленный прямоугольник 5"/>
          <p:cNvSpPr/>
          <p:nvPr/>
        </p:nvSpPr>
        <p:spPr>
          <a:xfrm>
            <a:off x="263520" y="995400"/>
            <a:ext cx="11736360" cy="1569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роткова Дина Анатольевна - заместитель директора ООДТДМ им. В.П. Поляничко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елефон: 8 (3532) 43-51-17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лектронный адрес: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korotkova.oodtdm@mail.r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Скругленный прямоугольник 6"/>
          <p:cNvSpPr/>
          <p:nvPr/>
        </p:nvSpPr>
        <p:spPr>
          <a:xfrm>
            <a:off x="263520" y="2708280"/>
            <a:ext cx="11736360" cy="1569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карец Наталья Борисовна - заместитель директора ООДЮМЦ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елефон: 8 (3532) 44-64-48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лектронный адрес: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karec66@yandex.r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Скругленный прямоугольник 7"/>
          <p:cNvSpPr/>
          <p:nvPr/>
        </p:nvSpPr>
        <p:spPr>
          <a:xfrm>
            <a:off x="263520" y="4437000"/>
            <a:ext cx="11736360" cy="1440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ванова Наталья Дмитриевна – начальник учебно-спортивного отдела ООДЮСШ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елефон: 8 (3532) 77-39-52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лектронный адрес: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vanova_nd@mail.r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10972800" cy="4525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H:\для чупиной презентация\4949c903e0674c2c9888c06a961b93f1.jp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Заголовок 1"/>
          <p:cNvSpPr/>
          <p:nvPr/>
        </p:nvSpPr>
        <p:spPr>
          <a:xfrm>
            <a:off x="1981080" y="1268280"/>
            <a:ext cx="82915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егиональный модельный центр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http://odtdm.ru/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Центр поддержки и методического сопровождения классного руководителя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http://orenklass.narod.ru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/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амятные и юбилейные даты Оренбургской области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 https://orenlib.ru/kray/calendar/year-2020.html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6-07T11:56:35Z</dcterms:created>
  <dc:creator>ДОМ</dc:creator>
  <dc:description/>
  <dc:language>en-US</dc:language>
  <cp:lastModifiedBy>Администратор</cp:lastModifiedBy>
  <cp:lastPrinted>2019-11-13T14:26:38Z</cp:lastPrinted>
  <dcterms:modified xsi:type="dcterms:W3CDTF">2020-08-19T05:31:42Z</dcterms:modified>
  <cp:revision>161</cp:revision>
  <dc:subject/>
  <dc:title>Презентация PowerPoint</dc:title>
</cp:coreProperties>
</file>